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2E7-3C70-40F8-8272-2BE77299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90A-6CC3-42C3-9B28-B09CFDD0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3B9-A0CE-455D-AD52-FD75597A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746-359A-4C3C-A732-F8B6DA1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C55-50BC-498E-BDCE-4D2954F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ADA-E061-43DE-9E58-A9059ACC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37D-0AB5-4944-A0C2-79F249F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E20-A103-4D35-B71C-254C788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F1E-100E-4CEE-896C-B9EB0EB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C2B-FCEE-4686-A041-5705396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F90-308D-448F-A204-D3D14441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401-4AEF-43BD-A572-93075DA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8CF-889C-49B6-AF8E-261C3FE5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www.google.com/imgres?imgurl=http://creativeroots.org/wp-content/uploads/2010/04/50_us_dollar.jpg&amp;imgrefurl=http://creativeroots.org/%3Fp%3D7850&amp;usg=__vmljwOjHz9O8LQIysNKfUEW0mPU=&amp;h=167&amp;w=400&amp;sz=23&amp;hl=en&amp;start=14&amp;zoom=1&amp;um=1&amp;itbs=1&amp;tbnid=pW70aJG5NTb0iM:&amp;tbnh=52&amp;tbnw=124&amp;prev=/search%3Fq%3Dusa%2Bdollar%26um%3D1%26hl%3Den%26biw%3D1004%26bih%3D612%26tbm%3Disch&amp;ei=bvzkTcvTEc_dgQf4x_DKB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www.google.com/imgres?imgurl=http://www.knowledgerush.com/wiki_image/8/88/US20-back.jpg&amp;imgrefurl=http://www.knowledgerush.com/kr/encyclopedia/USA_Dollar/&amp;usg=__vwWD6-8rP0FCfLqN7PelrDmaXqM=&amp;h=269&amp;w=626&amp;sz=101&amp;hl=en&amp;start=15&amp;zoom=1&amp;um=1&amp;itbs=1&amp;tbnid=Z0gz7Oe89V9HRM:&amp;tbnh=58&amp;tbnw=136&amp;prev=/search%3Fq%3Dusa%2Bdollar%26um%3D1%26hl%3Den%26biw%3D1004%26bih%3D612%26tbm%3Disch&amp;ei=bvzkTcvTEc_dgQf4x_DKBg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9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21932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43828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05640" y="0"/>
            <a:ext cx="1638360" cy="21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715080" y="2133720"/>
            <a:ext cx="242892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228600"/>
            <a:ext cx="281952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1752480"/>
            <a:ext cx="221004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4724280" y="2819520"/>
            <a:ext cx="221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400" y="1600200"/>
            <a:ext cx="3921120" cy="525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518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2:47:16Z</dcterms:created>
  <dc:creator>Administrator</dc:creator>
  <dc:description/>
  <dc:language>en-US</dc:language>
  <cp:lastModifiedBy>Administrator</cp:lastModifiedBy>
  <dcterms:modified xsi:type="dcterms:W3CDTF">2011-05-31T15:17:09Z</dcterms:modified>
  <cp:revision>3</cp:revision>
  <dc:subject/>
  <dc:title>American Dream</dc:title>
</cp:coreProperties>
</file>